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0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A9E113-2ACA-4339-B5BE-0D23E78E7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41AD9B-55B6-4683-8084-C3F82F67E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8959D9-E75D-4294-8CE7-4F277C0CB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1B323B-4D21-40D1-A1F5-2FFF38E43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7DC044-D176-4DDA-94EA-079FAB735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411A40-8038-4347-B9E5-A64B8B9C4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86D659-3615-4938-8CC6-1392391FB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535C17-4A30-4E27-A26C-9481ABB84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A43846-A6FD-474B-A351-D1A11F435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0EB317-9EDF-4B7E-AB04-F81A7533D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2DE6A3-F6C3-4DD1-829A-F093F4854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1B289F-7502-4FCD-A264-25CF9C16C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2436-3E95-4297-868C-5DEB3C5C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ECC-0DCF-49DF-8589-03EED170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F21D-D54D-4B76-B154-75D4FAAA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D435-7350-45D0-ABB5-E8263C3F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28A7-AFA6-41BA-B924-C49B72B0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1AA7-E6FB-416E-928F-16DBE9C1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F378-C271-4450-BEE9-090CBF41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194B-6B3A-4CB2-A996-3E3920ED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0773-B852-4B09-B509-3659ED64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C942-4F59-4295-A6FA-54797FC3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788E-F11E-4003-855B-EDE98861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9A5-77E6-43C8-92FC-23655F18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C2D9-C3BB-4BB3-A80F-3950F6FA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20BC-19F7-423F-9011-A0DDB8B6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B908-2C91-4460-AD8D-5867E860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B964-00E0-45CB-B4B9-59AE585F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C9A0-56C1-4C37-9B21-2F21258B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5781E-3F78-45F3-940E-0A2F26A7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8CDC6-CDC4-4024-AB02-EE5E4E45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DCBBF-5573-4E56-8B36-E1A06E4A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2BC07-AAD7-45B4-ABC2-16175413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A0012-120B-4574-A9CA-6659D4FD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E6B5-7B2C-4DAA-8CB2-D953839A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D21C3-7C5C-4CF0-ADA3-B00EC966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AB35A-F877-4D51-A1F5-35BAD9A4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3AEEF-8ABC-4E9C-A9A6-B771C0D1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1F0F9-4042-495E-A50B-461DA10B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79CB5-1E52-4B4E-8A7E-D9ABA53B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CDBD1-67BA-4E47-9512-B3D89013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E3977-B720-4F61-803B-0433624C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922F1-A45F-4E1D-AFF1-92E33D72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978DF-E0B4-43A9-A631-8FE4624D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6B8EB-EC1F-4215-9405-F32878EA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0066-73A9-49F9-81D3-3FB2D10F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F77BA-105A-4DC0-BE44-FFDED06E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E7AFF-6336-4B7F-9A43-8052D2B5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09140-6F8D-4718-9DE2-A2955408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51B3F-D2D7-4B15-A975-F83B50F9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CB6CA-1772-4042-BF60-2204DD36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2B0D8-649A-4C6E-9369-B153E6AE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B21DB-E702-4B95-9B02-11DB58D1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82BAB-69F8-4989-BCE8-5D0BEA13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CFD37-8A07-46C5-8388-4ED160F7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75091-8292-4839-8812-9DC2C6E7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6DAA-0C00-4F6E-A461-02C6027C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0C2A3-A4FE-426D-9ACF-60EC77C2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C83D7-2E31-4DB5-8087-F98D9799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B3C2A-8985-4BAE-9485-3CE86C53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E50D8-1BA1-4C6D-A4D4-A338D03B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EA2D2-C4EC-4591-B77D-82057E9E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11089-4D4D-49FD-96F5-A2769537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FBC6D-81C4-4367-9D9E-70988878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6FEEA-59CD-4954-B078-C5AFB5BB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62CFD-8E25-4CC8-94AA-BE5EB266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6ED8A-62CE-4F0E-9777-EE60463C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E4E0-AC05-4994-8224-60350162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B0868-A492-4AFD-ABA6-32AA9E80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A76A-04C0-42C6-8E06-78D539DE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D3B4-50E5-4A48-BE05-BA903C11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1DAF-CDA6-4DFA-AD03-8E3C7344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C37F-288E-4640-B3D4-606E90D210C0}" type="slidenum">
              <a:rPr b="0" lang="pt-P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14" name="Picture 8" descr="Moçambiques flagga"/>
          <p:cNvPicPr/>
          <p:nvPr/>
        </p:nvPicPr>
        <p:blipFill>
          <a:blip r:embed="rId5"/>
          <a:stretch/>
        </p:blipFill>
        <p:spPr>
          <a:xfrm>
            <a:off x="7696080" y="228600"/>
            <a:ext cx="9907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60" name="Picture 8" descr="Moçambiques flagga"/>
          <p:cNvPicPr/>
          <p:nvPr/>
        </p:nvPicPr>
        <p:blipFill>
          <a:blip r:embed="rId5"/>
          <a:stretch/>
        </p:blipFill>
        <p:spPr>
          <a:xfrm>
            <a:off x="7696080" y="228600"/>
            <a:ext cx="990720" cy="657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5727-3020-4DA0-8275-4DAE15BB928F}" type="slidenum">
              <a:rPr b="0" lang="pt-P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111" name="Picture 8" descr="Moçambiques flagga"/>
          <p:cNvPicPr/>
          <p:nvPr/>
        </p:nvPicPr>
        <p:blipFill>
          <a:blip r:embed="rId5"/>
          <a:stretch/>
        </p:blipFill>
        <p:spPr>
          <a:xfrm>
            <a:off x="7696080" y="228600"/>
            <a:ext cx="990720" cy="657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372B-C14A-4983-923A-36D3DF536685}" type="slidenum">
              <a:rPr b="0" lang="pt-P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9841-A859-476C-9981-8839C3FA2280}" type="slidenum">
              <a:rPr b="0" lang="pt-P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0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0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207" name="Picture 8" descr="Moçambiques flagga"/>
          <p:cNvPicPr/>
          <p:nvPr/>
        </p:nvPicPr>
        <p:blipFill>
          <a:blip r:embed="rId5"/>
          <a:stretch/>
        </p:blipFill>
        <p:spPr>
          <a:xfrm>
            <a:off x="7696080" y="228600"/>
            <a:ext cx="990720" cy="6573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BC09-905A-416D-8253-F5A724D9376F}" type="slidenum">
              <a:rPr b="0" lang="pt-P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304560" y="2286000"/>
            <a:ext cx="8839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0000"/>
                </a:solidFill>
                <a:latin typeface="Constantia"/>
              </a:rPr>
              <a:t>TIPOS DE ENERGIA, VANTAGENS E DESVANTAGENS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Constantia"/>
              </a:rPr>
              <a:t>Apresentação por: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Constantia"/>
              </a:rPr>
              <a:t>Jose Fenandes Quelhas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Constantia"/>
              </a:rPr>
              <a:t>CHIMOIO, Outubro  2008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99DC-544B-4C43-80DD-5C488A247CFE}" type="slidenum">
              <a:rPr b="0" lang="pt-PT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4191120" y="304920"/>
            <a:ext cx="1257120" cy="12967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7"/>
          <p:cNvSpPr/>
          <p:nvPr/>
        </p:nvSpPr>
        <p:spPr>
          <a:xfrm>
            <a:off x="2057400" y="167652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IRECCAO PROVINCIAL DOS RECURSOS MINERAIS E ENERGIA DE MANICA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1920" y="704520"/>
            <a:ext cx="853452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00"/>
                </a:solidFill>
                <a:latin typeface="Arial"/>
              </a:rPr>
              <a:t>Formas de Energia Vantagens e Desvantage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9900"/>
                </a:solidFill>
                <a:latin typeface="Arial"/>
              </a:rPr>
              <a:t>A Energia Hidráulic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 forma de energia usa a pressão da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</a:t>
            </a:r>
            <a:r>
              <a:rPr b="0" lang="pt-PT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ua para movimentar turbinas que estejam ligadas a geradores de corrente eléctrica em alguns casos constroem-se barragem para represar os rios e com muita pressão a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</a:t>
            </a:r>
            <a:r>
              <a:rPr b="0" lang="pt-PT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ua acumulada e injectada as turbinas girando-as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E132-8AE3-44F0-AD6D-6DE03FB112F5}" type="slidenum">
              <a:rPr b="0" lang="pt-PT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84" name="Picture 12" descr=""/>
          <p:cNvPicPr/>
          <p:nvPr/>
        </p:nvPicPr>
        <p:blipFill>
          <a:blip r:embed="rId1"/>
          <a:stretch/>
        </p:blipFill>
        <p:spPr>
          <a:xfrm>
            <a:off x="4876920" y="1935000"/>
            <a:ext cx="426708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00"/>
                </a:solidFill>
                <a:latin typeface="Arial"/>
              </a:rPr>
              <a:t>Formas de Energia Vantagens e Desvantage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9900"/>
                </a:solidFill>
                <a:latin typeface="Arial"/>
              </a:rPr>
              <a:t>Energia Hidráulic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9900"/>
                </a:solidFill>
                <a:latin typeface="Arial"/>
              </a:rPr>
              <a:t>Vantage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É um recurso renovável e limpo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Aplicável para a produção de electricidade a custo relativamente mais baixo por cada MW em relação a outras fontes de energi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9900"/>
                </a:solidFill>
                <a:latin typeface="Arial"/>
              </a:rPr>
              <a:t>Desvantage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Forte impacto ambiental através da inundação de áreas habitadas pelas populaçõ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Destruição da flora e da fauna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Distância considerável entre o ponto de geração e o ponto de consumo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As secas diminuem o volume d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gua nos tanques perdendo-se a capacidade de produção de energi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00"/>
                </a:solidFill>
                <a:latin typeface="Arial"/>
              </a:rPr>
              <a:t>Formas de Energia Vantagens e Desvantage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5181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9900"/>
                </a:solidFill>
                <a:latin typeface="Constantia"/>
              </a:rPr>
              <a:t>A Energia Solar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00000"/>
                </a:solidFill>
                <a:latin typeface="Constantia"/>
              </a:rPr>
              <a:t>É a energia obtida através da conversão directa da luz em: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00000"/>
                </a:solidFill>
                <a:latin typeface="Constantia"/>
              </a:rPr>
              <a:t>Electricidade e aquecimento de àgua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 u="sng">
                <a:solidFill>
                  <a:srgbClr val="009900"/>
                </a:solidFill>
                <a:uFillTx/>
                <a:latin typeface="Constantia"/>
              </a:rPr>
              <a:t>Vantagens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00000"/>
                </a:solidFill>
                <a:latin typeface="Constantia"/>
              </a:rPr>
              <a:t>Não poluí durante o seu uso, é renovável e existe em abundância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00000"/>
                </a:solidFill>
                <a:latin typeface="Constantia"/>
              </a:rPr>
              <a:t>Baixa manutenção e fácil instalação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00000"/>
                </a:solidFill>
                <a:latin typeface="Constantia"/>
              </a:rPr>
              <a:t>Excelente aplicabilidade em lugares remotos ou de difícil acesso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00000"/>
                </a:solidFill>
                <a:latin typeface="Constantia"/>
              </a:rPr>
              <a:t>Em pequena escala não requer linhas de transmissão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00000"/>
                </a:solidFill>
                <a:latin typeface="Constantia"/>
              </a:rPr>
              <a:t>Alta vida útil dos painéis solares (25 anos em media)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Picture 8" descr="solar"/>
          <p:cNvPicPr/>
          <p:nvPr/>
        </p:nvPicPr>
        <p:blipFill>
          <a:blip r:embed="rId1"/>
          <a:stretch/>
        </p:blipFill>
        <p:spPr>
          <a:xfrm>
            <a:off x="5181480" y="1676520"/>
            <a:ext cx="3962520" cy="2819160"/>
          </a:xfrm>
          <a:prstGeom prst="rect">
            <a:avLst/>
          </a:prstGeom>
          <a:ln w="0">
            <a:noFill/>
          </a:ln>
        </p:spPr>
      </p:pic>
      <p:sp>
        <p:nvSpPr>
          <p:cNvPr id="29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6837-4683-4C7D-AB1B-8CF904DA12FC}" type="slidenum">
              <a:rPr b="0" lang="pt-PT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91" name="Picture 14" descr="fdr"/>
          <p:cNvPicPr/>
          <p:nvPr/>
        </p:nvPicPr>
        <p:blipFill>
          <a:blip r:embed="rId2"/>
          <a:stretch/>
        </p:blipFill>
        <p:spPr>
          <a:xfrm>
            <a:off x="5181480" y="4589640"/>
            <a:ext cx="396252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00"/>
                </a:solidFill>
                <a:latin typeface="Arial"/>
              </a:rPr>
              <a:t>Formas de Energia Vantagens e Desvantage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 u="sng">
                <a:solidFill>
                  <a:srgbClr val="009900"/>
                </a:solidFill>
                <a:uFillTx/>
                <a:latin typeface="Constantia"/>
              </a:rPr>
              <a:t>Desvantagem (Solar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usto inicial elevado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Variação nas quantidades produzidas de acordo com a situação climática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urante a noite não existe prod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çã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 alguma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istência de meios de armazenamento da energia produzida durante o di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00"/>
                </a:solidFill>
                <a:latin typeface="Calibri"/>
              </a:rPr>
              <a:t>Formas de Energia Vantagens e Desvantage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0" y="1371600"/>
            <a:ext cx="5638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9900"/>
                </a:solidFill>
                <a:uFillTx/>
                <a:latin typeface="Arial"/>
              </a:rPr>
              <a:t>Energia Eólica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 a energia obtida pelo movimento do vento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9900"/>
                </a:solidFill>
                <a:latin typeface="Arial"/>
              </a:rPr>
              <a:t>Vantagen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buClr>
                <a:srgbClr val="009d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É um recurso limpo e renovável;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buClr>
                <a:srgbClr val="009d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abundante na natureza;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buClr>
                <a:srgbClr val="009d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sado para a produção de electricidade, bombagem de água;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buClr>
                <a:srgbClr val="009d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tempo de vida das turbinas é de aproximadamente 20 anos;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buClr>
                <a:srgbClr val="009d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terreno ocupado pelos parques eólicos pode ser utilizado para outros fins, como a agricultura.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97" name="Picture 8" descr="per0080p"/>
          <p:cNvPicPr/>
          <p:nvPr/>
        </p:nvPicPr>
        <p:blipFill>
          <a:blip r:embed="rId1"/>
          <a:stretch/>
        </p:blipFill>
        <p:spPr>
          <a:xfrm>
            <a:off x="5753160" y="1295280"/>
            <a:ext cx="3390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00"/>
                </a:solidFill>
                <a:latin typeface="Calibri"/>
              </a:rPr>
              <a:t>Formas de Energia Vantagens e Desvantage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0" y="1447920"/>
            <a:ext cx="548640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00"/>
                </a:solidFill>
                <a:latin typeface="Arial"/>
              </a:rPr>
              <a:t>Desvantagens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buClr>
                <a:srgbClr val="009d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 produção de energia depende da disponibilidade do recuso eólico;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buClr>
                <a:srgbClr val="009d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missão de ruídos;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buClr>
                <a:srgbClr val="009d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mpacto visual, efeito de sombras em movimento;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buClr>
                <a:srgbClr val="009d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mpacto ambiental (Migração das aves);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buClr>
                <a:srgbClr val="009d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Interferências electromagnéticas</a:t>
            </a:r>
            <a:endParaRPr b="0" lang="en-US" sz="27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buClr>
                <a:srgbClr val="009d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01" name="Picture 5" descr="wind"/>
          <p:cNvPicPr/>
          <p:nvPr/>
        </p:nvPicPr>
        <p:blipFill>
          <a:blip r:embed="rId1"/>
          <a:stretch/>
        </p:blipFill>
        <p:spPr>
          <a:xfrm>
            <a:off x="5610240" y="1981080"/>
            <a:ext cx="35337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1920" y="704880"/>
            <a:ext cx="89917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9900"/>
                </a:solidFill>
                <a:latin typeface="Calibri"/>
              </a:rPr>
              <a:t>Experiência do Pa</a:t>
            </a:r>
            <a:r>
              <a:rPr b="1" lang="pt-PT" sz="2600" spc="-1" strike="noStrike">
                <a:solidFill>
                  <a:srgbClr val="009900"/>
                </a:solidFill>
                <a:latin typeface="Calibri"/>
                <a:ea typeface="Times New Roman"/>
              </a:rPr>
              <a:t>ís em Matéria de Energias Renováveis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3" name="Picture 8" descr="fdr"/>
          <p:cNvPicPr/>
          <p:nvPr/>
        </p:nvPicPr>
        <p:blipFill>
          <a:blip r:embed="rId1"/>
          <a:stretch/>
        </p:blipFill>
        <p:spPr>
          <a:xfrm>
            <a:off x="4800600" y="4572000"/>
            <a:ext cx="4038480" cy="20574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9" descr="Picture1"/>
          <p:cNvPicPr/>
          <p:nvPr/>
        </p:nvPicPr>
        <p:blipFill>
          <a:blip r:embed="rId2"/>
          <a:stretch/>
        </p:blipFill>
        <p:spPr>
          <a:xfrm>
            <a:off x="4800600" y="2057400"/>
            <a:ext cx="4343400" cy="23130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9900"/>
                </a:solidFill>
                <a:latin typeface="Constantia"/>
              </a:rPr>
              <a:t>Energia Sol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nstantia"/>
              </a:rPr>
              <a:t>Fotovolta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nstantia"/>
              </a:rPr>
              <a:t>Electrificação rural em que os hospitais e as escolas são o foco principal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nstantia"/>
              </a:rPr>
              <a:t>Ligação de sistemas de Telecomunicaçõe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nstantia"/>
              </a:rPr>
              <a:t>Sistemas de bombeamento de águ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nstantia"/>
              </a:rPr>
              <a:t>Energia Térm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nstantia"/>
              </a:rPr>
              <a:t>Utilização para aquecimento de águ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9900"/>
                </a:solidFill>
                <a:latin typeface="Calibri"/>
              </a:rPr>
              <a:t>Experiência do Pa</a:t>
            </a:r>
            <a:r>
              <a:rPr b="1" lang="pt-PT" sz="2500" spc="-1" strike="noStrike">
                <a:solidFill>
                  <a:srgbClr val="009900"/>
                </a:solidFill>
                <a:latin typeface="Calibri"/>
                <a:ea typeface="Times New Roman"/>
              </a:rPr>
              <a:t>ís em Matéria de Energias Renováveis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9900"/>
                </a:solidFill>
                <a:latin typeface="Arial"/>
              </a:rPr>
              <a:t>Biomassa Tradiciona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trodução de fornos melhorados para a queima do carvão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dução da devastação dos recursos  floresta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8831-477D-46A0-A025-E45A65CA2F47}" type="slidenum">
              <a:rPr b="0" lang="pt-PT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09" name="Picture 7" descr=""/>
          <p:cNvPicPr/>
          <p:nvPr/>
        </p:nvPicPr>
        <p:blipFill>
          <a:blip r:embed="rId1"/>
          <a:stretch/>
        </p:blipFill>
        <p:spPr>
          <a:xfrm>
            <a:off x="5638680" y="1066680"/>
            <a:ext cx="32767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9900"/>
                </a:solidFill>
                <a:latin typeface="Calibri"/>
              </a:rPr>
              <a:t>Experiência do Pa</a:t>
            </a:r>
            <a:r>
              <a:rPr b="1" lang="pt-PT" sz="2500" spc="-1" strike="noStrike">
                <a:solidFill>
                  <a:srgbClr val="009900"/>
                </a:solidFill>
                <a:latin typeface="Calibri"/>
                <a:ea typeface="Times New Roman"/>
              </a:rPr>
              <a:t>ís em Matéria de Energias Renováveis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Biomassa Tradicion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rodução de fogões melhorados para uso domestico e institucional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Redução do consumo lenha;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A54F-7171-4174-88F6-472A58DC90BA}" type="slidenum">
              <a:rPr b="0" lang="pt-PT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13" name="Picture 6" descr="F:\fotos DNER\PA150053.JPG"/>
          <p:cNvPicPr/>
          <p:nvPr/>
        </p:nvPicPr>
        <p:blipFill>
          <a:blip r:embed="rId1"/>
          <a:stretch/>
        </p:blipFill>
        <p:spPr>
          <a:xfrm>
            <a:off x="4952880" y="990720"/>
            <a:ext cx="3962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9900"/>
                </a:solidFill>
                <a:latin typeface="Calibri"/>
              </a:rPr>
              <a:t>Experiência do Pa</a:t>
            </a:r>
            <a:r>
              <a:rPr b="1" lang="pt-PT" sz="2400" spc="-1" strike="noStrike">
                <a:solidFill>
                  <a:srgbClr val="009900"/>
                </a:solidFill>
                <a:latin typeface="Calibri"/>
                <a:ea typeface="Times New Roman"/>
              </a:rPr>
              <a:t>ís em Matéria de Energias Renováveis</a:t>
            </a:r>
            <a:r>
              <a:rPr b="1" lang="pt-PT" sz="28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610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 u="sng">
                <a:solidFill>
                  <a:srgbClr val="000000"/>
                </a:solidFill>
                <a:uFillTx/>
                <a:latin typeface="Arial"/>
              </a:rPr>
              <a:t>Biomassa Modern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o combustíveis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Líquidos (Biodiesel e Etanol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 ECOMOZ tem instalado na Matola uma fabrica de produção de biodiese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D1A2-1F4F-49E7-B528-62AA084ADAFB}" type="slidenum">
              <a:rPr b="0" lang="pt-PT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533160" y="1447920"/>
            <a:ext cx="78548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Constantia"/>
              </a:rPr>
              <a:t>Introdução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Constantia"/>
              </a:rPr>
              <a:t>Conceito de Energia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Constantia"/>
              </a:rPr>
              <a:t>Formas de Energia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Constantia"/>
              </a:rPr>
              <a:t>Vantagens e Desvantagens</a:t>
            </a:r>
            <a:r>
              <a:rPr b="1" lang="pt-PT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61D0-1AB2-400F-A942-66CBD70DAF2E}" type="slidenum">
              <a:rPr b="0" lang="pt-PT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685800" y="762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 u="sng">
                <a:solidFill>
                  <a:srgbClr val="66ff66"/>
                </a:solidFill>
                <a:uFillTx/>
                <a:latin typeface="Arial"/>
              </a:rPr>
              <a:t>Conteúdos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9900"/>
                </a:solidFill>
                <a:latin typeface="Arial"/>
              </a:rPr>
              <a:t>Experiência do Pa</a:t>
            </a:r>
            <a:r>
              <a:rPr b="1" lang="pt-PT" sz="2400" spc="-1" strike="noStrike">
                <a:solidFill>
                  <a:srgbClr val="009900"/>
                </a:solidFill>
                <a:latin typeface="Arial"/>
                <a:ea typeface="Times New Roman"/>
              </a:rPr>
              <a:t>ís em Matéria de Energias Renovávei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91540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lvl="1" marL="639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00"/>
                </a:solidFill>
                <a:latin typeface="Arial"/>
              </a:rPr>
              <a:t>Energia Eólic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Sistemas de bombeamento de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gua para consumo e irrigaçã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3620-0E13-41EA-AF62-EA7B130B24C2}" type="slidenum">
              <a:rPr b="0" lang="pt-PT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20" name="Content Placeholder 7" descr=""/>
          <p:cNvPicPr/>
          <p:nvPr/>
        </p:nvPicPr>
        <p:blipFill>
          <a:blip r:embed="rId1"/>
          <a:stretch/>
        </p:blipFill>
        <p:spPr>
          <a:xfrm>
            <a:off x="4572000" y="335268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2"/>
          <a:stretch/>
        </p:blipFill>
        <p:spPr>
          <a:xfrm>
            <a:off x="0" y="3352680"/>
            <a:ext cx="4572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PONTO DE SITUACAO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( ENERGIAS NOVAS RENOVAVEIS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OJECTOS REALIZADO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NERGIA DE BIOMASS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alizacao de tres seminarios nos acampamentos de Garimpo nomeadamente Bandira Tsetsera( Sussundenga)  e Munhena( Manica) para dessiminacao de tecnicas de fogoes melhorados que beneficiou a 90 garimpeiros.(2006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alizacao de dois seminarios para a dessiminacao de de fogoes melhorados nos distritos de Guro e Tambara onde participaram 60 mulheres.(2006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alizacao de um curso,de formacao de oleiros no Bairro trangapasso na cidade de Chimoio, onde foram formados 10 Oleiros, sendo 5 Mulheres e 5 Homens.(2007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iomass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trucao de 10 fogoes instituicionais fixos em diferentes instituicao, nomeadamente: Lar Bagamoio, Sabedoria de Deus, IAC, ADPP, Centro de saude Gongola, Internato de Mazicuera, Infatario de Nhamaonha, Centro de Saude de Nhamanhona, Cadeia Provincial, e Quartel de Chimoio.(200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lizacao de uma  feira de fogoes melhorados  na praca dos namorados junto a praca dos Herois Mocambicanos na Cidade de Chimoio(2007), visitada por  mais de 100 pessoas( vendidos 5 fogoes movei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iomass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lizacao de curso de formacao de carvoeirosem Muda Serracao, no distrito de Gondola em tecnicas melhoradas de carvao vejetalonde participaram 30 carvoeiros oriundos dos ditritos de Gondola, Manica e Sussundenga.(2006)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nergia Hidr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trucao de uma central Hidroelectrica de pequena escala em Honde, Distrito de Barue, beneficia a 28 consumidores, mas tem capacidade para beneficiar a 100 consumidores( Marco de 2008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cluida a construcao do primeiro sistema Hidroelectrico de pequena escala na povoacao de Chua, Distrito de Manica e prossegue a construcao do segundo sistema no Ambito do projecto AMES( Acesso a Servico Moderno de Energia) ate Dezembro de 2008 serao construidos mais dois sistemas semelhant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NERGIA SO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ectrificada Escola e Centro de Saude em Chipindaumue no distrito de Gondola e uma Escola   em Honde no distrito de Barue. (2005 financiamento do DED) Servico Alemao para desenvolvimento tecn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ectrificacao de Mavonde( Manica), Mungari(Guro) com recurso a sistema fotovoltaico tendo beneficiado cerca de 131 pessoas sendo 65 em Mungari e 66 em Manvo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jectos propos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trucao duma central hidrica de pequena escala Sembezeia no Distrito de Sussundenga e reabilitacao da mini hidrica de Rondata no mesmo Distri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trucao de uma central hidroelectrica de pequena escala em Rontada sobre o Rio Mutsineme, com capacidade de 700KW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bilicao e ampliacao de pequeno sistema hidrico do sr Peter Waziwei em Inhazonia distrito de Baru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trucao de uma central de pequena escala no posto Administrativo de Choa no distrito de Barue com capacidade de 160KW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t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trucao de uma central hidroelectrica de pequena escala no posto Administrativo de Mavonde no distrito de Manica com capacidade de 160KW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detificacao de mais locais com potencial para construcao de centrais hidrielectricas de pequenas escal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T.SO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ectrificao de 30 escolas e 30 centros de saude nos Distritos de Tambara, Guro, Macossa, Mussurize e Machaz.com recurso a energia solar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UITO OBRIGADO PELA ATENCA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9900"/>
                </a:solidFill>
                <a:latin typeface="Calibri"/>
              </a:rPr>
              <a:t>Introdução (Conceito de energia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560" y="76176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 conceito que a sociedade tem sobre energia é, em regra geral, extremamente superficial, pois ele restringe-se à aqueles tipos de energia relacionados ao dia-a-dia de cada um, como a energia eléctrica para a iluminação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Energi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capacidade de produzir trabalho. Esta palavra surge sempre associada à capacidade de poder fazer qualquer coisa acontecer. A energia manifesta-se  de diversas formas: Calor, movimento ou luz.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8AA7-2B38-4232-8F47-A88056FD7821}" type="slidenum">
              <a:rPr b="0" lang="pt-PT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9900"/>
                </a:solidFill>
                <a:latin typeface="Arial"/>
              </a:rPr>
              <a:t>Introdução (Conceito de energia</a:t>
            </a:r>
            <a:r>
              <a:rPr b="1" lang="pt-PT" sz="3600" spc="-1" strike="noStrike">
                <a:solidFill>
                  <a:srgbClr val="0099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Arial"/>
              </a:rPr>
              <a:t>Utilidad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Para a produção de alimentos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Bens de consumo, de serviço e de produção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Lazer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100" spc="-1" strike="noStrike">
                <a:solidFill>
                  <a:srgbClr val="000000"/>
                </a:solidFill>
                <a:latin typeface="Arial"/>
              </a:rPr>
              <a:t>Promoção do desenvolvimento sócio-económico, e cultural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9900"/>
                </a:solidFill>
                <a:latin typeface="Calibri"/>
              </a:rPr>
              <a:t> </a:t>
            </a:r>
            <a:br>
              <a:rPr sz="1600"/>
            </a:br>
            <a:r>
              <a:rPr b="1" lang="pt-PT" sz="3200" spc="-1" strike="noStrike">
                <a:solidFill>
                  <a:srgbClr val="009900"/>
                </a:solidFill>
                <a:latin typeface="Arial"/>
              </a:rPr>
              <a:t>Formas de Energia</a:t>
            </a:r>
            <a:r>
              <a:rPr b="0" lang="pt-PT" sz="3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8380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104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9900"/>
                </a:solidFill>
                <a:uFillTx/>
                <a:latin typeface="Arial"/>
              </a:rPr>
              <a:t>Energia não renovável</a:t>
            </a:r>
            <a:r>
              <a:rPr b="1" lang="pt-PT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É aquela que é obtida à partir de fontes naturais que não sejam capazes de se regenerar.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just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etróleo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just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Carvão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just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Gás natural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9900"/>
                </a:solidFill>
                <a:uFillTx/>
                <a:latin typeface="Arial"/>
              </a:rPr>
              <a:t>Energia renovável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É aquela que é obtida à partir de fontes naturais capazes de se regener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 Energia da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Biomas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Energia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Hidrául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Energia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Sol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 Energia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Eólica</a:t>
            </a:r>
            <a:r>
              <a:rPr b="0" lang="pt-PT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BE92-3938-4B33-BAD9-86682CCEA12F}" type="slidenum">
              <a:rPr b="0" lang="pt-PT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9900"/>
                </a:solidFill>
                <a:latin typeface="Arial"/>
              </a:rPr>
              <a:t>Energias Renováveis Vantagens em Relação às Energias Convencionai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 consumo de energias convencionais ou seja, petróleo, gás natural e carvão emite anualmente toneladas de CO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para a atmosfera. O CO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é o maior responsável pelo aumento do efeito estufa, fazendo com que a Temperatura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ia do globo aumente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 elevada procura e consumo das E. convencionais levará a que estes se esgotem pelo facto de os esgotarmos mais rapido do que o tempo necessário para que a natureza os produza novamente. Assim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9900"/>
                </a:solidFill>
                <a:latin typeface="Arial"/>
              </a:rPr>
              <a:t>Energias Renováveis Vantagens em Relação às Energias Convencionai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É necessário a utilização de E.R. pois não se esgotam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0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PT" sz="29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pt-PT" sz="2900" spc="-1" strike="noStrike">
                <a:solidFill>
                  <a:srgbClr val="000000"/>
                </a:solidFill>
                <a:latin typeface="Arial"/>
              </a:rPr>
              <a:t>o mais limpas e não emitem gases com efeito estufa, sendo excepção a biomassa que origina quantidades insignificantes de CO</a:t>
            </a:r>
            <a:r>
              <a:rPr b="0" lang="pt-PT" sz="2900" spc="-1" strike="noStrike" baseline="-25000">
                <a:solidFill>
                  <a:srgbClr val="000000"/>
                </a:solidFill>
                <a:latin typeface="Arial"/>
              </a:rPr>
              <a:t>2,</a:t>
            </a:r>
            <a:r>
              <a:rPr b="0" lang="pt-PT" sz="2900" spc="-1" strike="noStrike">
                <a:solidFill>
                  <a:srgbClr val="000000"/>
                </a:solidFill>
                <a:latin typeface="Arial"/>
              </a:rPr>
              <a:t>, SO</a:t>
            </a:r>
            <a:r>
              <a:rPr b="0" lang="pt-PT" sz="2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PT" sz="2900" spc="-1" strike="noStrike">
                <a:solidFill>
                  <a:srgbClr val="000000"/>
                </a:solidFill>
                <a:latin typeface="Arial"/>
              </a:rPr>
              <a:t> e N</a:t>
            </a:r>
            <a:r>
              <a:rPr b="0" lang="pt-PT" sz="2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PT" sz="2900" spc="-1" strike="noStrike">
                <a:solidFill>
                  <a:srgbClr val="000000"/>
                </a:solidFill>
                <a:latin typeface="Arial"/>
              </a:rPr>
              <a:t>O para a atmosfera;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0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Arial"/>
              </a:rPr>
              <a:t>A exploração local das E.R. Contribui para reduzir a dependência energética relativamente a importação do petróleo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00"/>
                </a:solidFill>
                <a:latin typeface="Calibri"/>
              </a:rPr>
              <a:t>Formas de Energia Vantagens e Desvantage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56386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 algn="just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9900"/>
                </a:solidFill>
                <a:latin typeface="Arial"/>
              </a:rPr>
              <a:t>A Energia da Biomas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A biomassa é o material que normalmente imaginamos como lixo. São restos e sobras de toda a espécie: árvores mortas, ramos de árvores, cascas de árvores e serradura que sobram nas carpintarias, óleos vegetais, a cana-de-açúcar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sobras de colheita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67120" algn="just">
              <a:lnSpc>
                <a:spcPct val="120000"/>
              </a:lnSpc>
              <a:spcBef>
                <a:spcPts val="524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Arial"/>
              </a:rPr>
              <a:t>A biomassa pode ser aproveitada para produzir electricidade reduzindo a necessidade de recorrer a outras fontes de energia.</a:t>
            </a:r>
            <a:r>
              <a:rPr b="0" lang="pt-PT" sz="2100" spc="-1" strike="noStrike">
                <a:solidFill>
                  <a:srgbClr val="000000"/>
                </a:solidFill>
                <a:latin typeface="Arial"/>
              </a:rPr>
              <a:t> Cerca de 80% da população moçambicana usa a biomassa para as suas actividades diária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0" algn="just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C868-E59A-47B6-A0D6-9468C7778D4F}" type="slidenum">
              <a:rPr b="0" lang="pt-PT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78" name="Picture 6" descr="F:\fotos DNER\PA150053.JPG"/>
          <p:cNvPicPr/>
          <p:nvPr/>
        </p:nvPicPr>
        <p:blipFill>
          <a:blip r:embed="rId1"/>
          <a:stretch/>
        </p:blipFill>
        <p:spPr>
          <a:xfrm>
            <a:off x="5943600" y="990720"/>
            <a:ext cx="3200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00"/>
                </a:solidFill>
                <a:latin typeface="Arial"/>
              </a:rPr>
              <a:t>Formas de Energia Vantagens e Desvantage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00"/>
                </a:solidFill>
                <a:latin typeface="Constantia"/>
              </a:rPr>
              <a:t>Vantagens da Biomass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700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onstantia"/>
              </a:rPr>
              <a:t>Baixo custo, e é renovável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700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onstantia"/>
              </a:rPr>
              <a:t>Pode ser reutilizada e transformada noutros produtos como o papel e fertilizantes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00"/>
                </a:solidFill>
                <a:latin typeface="Constantia"/>
              </a:rPr>
              <a:t>Desvantagens da Biomass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00"/>
                </a:solidFill>
                <a:latin typeface="Constantia"/>
              </a:rPr>
              <a:t>    </a:t>
            </a:r>
            <a:r>
              <a:rPr b="0" lang="pt-PT" sz="2800" spc="-1" strike="noStrike">
                <a:solidFill>
                  <a:srgbClr val="000000"/>
                </a:solidFill>
                <a:latin typeface="Constantia"/>
              </a:rPr>
              <a:t>Destruição da fauna e da flora extinguindo certas espécies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onstantia"/>
              </a:rPr>
              <a:t>A biomassa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é</a:t>
            </a:r>
            <a:r>
              <a:rPr b="0" lang="pt-PT" sz="2800" spc="-1" strike="noStrike">
                <a:solidFill>
                  <a:srgbClr val="000000"/>
                </a:solidFill>
                <a:latin typeface="Constantia"/>
              </a:rPr>
              <a:t> menos eficiente por metro quadrado do que os painéis solares,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700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onstantia"/>
              </a:rPr>
              <a:t>Contaminação do solo pelo uso de adubos.</a:t>
            </a:r>
            <a:r>
              <a:rPr b="0" lang="pt-PT" sz="2800" spc="-1" strike="noStrike">
                <a:solidFill>
                  <a:srgbClr val="0099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7:12:51Z</dcterms:created>
  <dc:creator>aos</dc:creator>
  <dc:description/>
  <dc:language>en-US</dc:language>
  <cp:lastModifiedBy>pecador</cp:lastModifiedBy>
  <dcterms:modified xsi:type="dcterms:W3CDTF">2012-04-30T08:05:33Z</dcterms:modified>
  <cp:revision>334</cp:revision>
  <dc:subject/>
  <dc:title>Slide 1</dc:title>
</cp:coreProperties>
</file>